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ickvan.wav" ContentType="audio/x-wav"/>
  <Override PartName="/ppt/media/grnacres.wav" ContentType="audio/x-wav"/>
  <Override PartName="/ppt/media/jeannie.wav" ContentType="audio/x-wav"/>
  <Override PartName="/ppt/media/odcouple.wav" ContentType="audio/x-wav"/>
  <Override PartName="/ppt/media/lovelucy.wav" ContentType="audio/x-wav"/>
  <Override PartName="/ppt/media/ticktock.wav" ContentType="audio/x-wav"/>
  <Override PartName="/ppt/media/standbyaction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5518-7C05-455B-8132-513D8626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A802-EA7E-4FC6-A8A9-10389DF4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C940-D570-46E1-9A24-4F0F5F27E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ECD2-6EC4-4869-8146-492D445E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23A7-81DC-4DC6-BD26-D1CA4DE22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E1EE-B8D5-4EB0-870F-A202A23D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74C0-2A35-4863-8111-8E97796F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D40E-B111-49F0-8028-601B0419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0BAA6-AFE0-4904-AAB8-188B0F8E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7A58-9267-445C-B514-2DF51C48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C716-61E0-48F5-96C6-765AAD6B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A517-0FDA-4AAA-9CB2-54104BD4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766D-8B48-43E6-B0C4-8749E0CA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5B56-3755-41E1-A241-487F3D58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E1BA-1008-4AB1-8909-A254FB9E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B629-2BF8-43F2-BF9B-4EBB3448C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E92E-98AA-44DC-8452-98359E072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F44E-7C76-46D8-B2F6-614EC892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4E38-0DCD-46FB-9CA2-EAEC7B5E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009D-447A-41AD-856D-89A4DD28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8FA8-6ED9-4EB9-AE55-DF1A6805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CEFB-2449-4669-9D70-69DC4A41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C3F4-F3A8-4853-A662-592E1577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F0AD-19E5-47E1-8AF3-2D324C6F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7775"/>
                </a:gs>
                <a:gs pos="100000">
                  <a:srgbClr val="005a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d7775"/>
                </a:gs>
                <a:gs pos="100000">
                  <a:srgbClr val="005a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EDC1-367E-4048-B209-354CAEE408F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7775"/>
                </a:gs>
                <a:gs pos="100000">
                  <a:srgbClr val="005a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d7775"/>
                </a:gs>
                <a:gs pos="100000">
                  <a:srgbClr val="005a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6B9B-D36F-4A24-B753-FB97FCCAC60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ickvan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icktock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icktock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icktock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icktock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icktock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icktock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icktock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icktock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ticktock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ticktock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grnacr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standbyaction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jeanni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ovelucy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odcoupl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icktock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icktock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icktock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icktock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581280" y="609480"/>
            <a:ext cx="2133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minute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581280" y="609480"/>
            <a:ext cx="2133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minute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1549440"/>
            <a:ext cx="8001000" cy="355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Let's get started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581280" y="609480"/>
            <a:ext cx="2133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minute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581280" y="609480"/>
            <a:ext cx="2133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minute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581280" y="609480"/>
            <a:ext cx="2133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minute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20:41:59Z</dcterms:created>
  <dc:creator>Marilyn Western</dc:creator>
  <dc:description/>
  <dc:language>en-US</dc:language>
  <cp:lastModifiedBy>admin</cp:lastModifiedBy>
  <dcterms:modified xsi:type="dcterms:W3CDTF">2004-09-12T21:11:11Z</dcterms:modified>
  <cp:revision>14</cp:revision>
  <dc:subject/>
  <dc:title>PowerPoint Presentation</dc:title>
</cp:coreProperties>
</file>